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EF1-6AF8-4495-8477-04A6C619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709-8A06-4DD7-A71B-356E4E5C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93C-76FF-402F-BDBF-B74C990E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87E-993F-4ED5-97CB-D40C370A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E1F-7AF3-4AEB-93AA-79D07C2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7BC-23B0-455B-A8D0-E0186A67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1A-526A-48B7-834B-41916A65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441-1A4A-4899-B43E-795F3D8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D9C-D5D4-4391-9FF9-84240DB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B52-6CA0-4CBB-A93D-7631F5A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A61-624C-47A0-9BD4-1EA4207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18F-6A5A-4791-8E46-8C7E4D3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D97-2EA4-4329-AEA5-E8C155946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daptation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haracteristic that helps an organism survive in its environment or reproduc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iological Diversity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range of natural variety of species in an ecosystem (biodiversit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tmospher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mixture of gases surrounding Earth and other planet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tmospheric Pressur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weight of the atmosphere pressing on the surface of Earth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cientists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alile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Study the stars (Astronomy), Heliocentric (Sun is center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ewt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Father of Physics, Forces of Motion (Law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ndelee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Periodic Table of Ele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regor Mendel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Experiments with Pea plants, Father of Genetics (Heredit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uri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Chemistry (Radioactivit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instei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E=m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21:49Z</dcterms:created>
  <dc:creator>Sterling Grade School</dc:creator>
  <dc:description/>
  <dc:language>en-US</dc:language>
  <cp:lastModifiedBy>Sterling Grade School</cp:lastModifiedBy>
  <dcterms:modified xsi:type="dcterms:W3CDTF">2010-04-16T15:08:33Z</dcterms:modified>
  <cp:revision>3</cp:revision>
  <dc:subject/>
  <dc:title>Adaptation</dc:title>
</cp:coreProperties>
</file>